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6CD-8FE5-4E3D-8DFB-373F65BD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3F7-FBDF-4D2F-A31B-058E1369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C1E-6D63-4F8A-B7B4-9DD970B6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A04-B5CF-44EB-9E34-8F5B8B42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66A6-4BB1-4C49-8543-86B51DA4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457-225C-411C-9EE7-CFADAFAA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2A93-4609-422F-BAD7-DF7A886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B33B-07FD-43EA-9298-F51DF60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BFB7-1CA9-4F9F-AA0D-532838D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D750-0510-4591-B260-29B4CC10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CEAE-DCF2-4ED2-89C5-BC7A8FC1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794-91F7-4A8B-A552-AA7B6B74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D2FA-4A19-4CFB-95EF-5C426CE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7D81-5DD0-44E5-8FE0-CDF1208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471B-C658-4BFF-A0CF-761706C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32C6-CD75-4A8F-836B-E12A69C1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794E-E17E-4476-93E5-4E7CFA79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A16-639D-4A6B-97B2-2C352CA2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E0B-FB05-4C90-82ED-6B56FD0F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868-867C-4086-94DF-6DA1BAB3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718-CC40-4FBD-8E91-72722DEF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1B2-6502-4E55-B62A-879A689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D0A-02E4-49EA-826A-60C2244B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5B6-78ED-49F5-A8A2-24759AC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5D7-9961-444D-B958-B9A6E62A40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5A8A-759A-4CC6-9C63-92D399C1951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rge:immense::________:_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narch:Kingdom::President: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Practice 1-fill in the blank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f course you have the right to ask the waiter for a glass of water, but there is no need to use the tone of a ________ chil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feel that, as an old friend, I have the ___________ of telling you it is a mistak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e read the newspaper article of our friends attack, there were several paragraphs of ____________ detail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like the salespeople in that store because they do their jobs without making a big show of ___________ behavior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certainly appreciate your praise, but I see nothing ___________ in having done what anyone could do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cused Freewri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 minu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you rather live to be 105 but have a normal, ordinary l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 famous, but only live to 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. 11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did Mrs. Dubose say about Atticu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was Jem’s reaction? Did he do the right thing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was he punished?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does he learn from this punish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Miss Maudie and Mrs Dubose, what qualities do they share and how are they differ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. 1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id Cal take extra care going over the children’s clothes before taking them to her church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t the church the kids discovered that Cal spoke one way to her black friends at church and another way when she worked at the Finch’s. How did she explain thi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aren’t there any hymn books at Cal’s church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o is waiting on the front steps of the Finch house when they return from church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won’t Scout be able to see Dill this summ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mbo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 Mrs. Dubose’s camellias and how they grew back after Jem mutilated them. What symbolic effect could the author be trying to portra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ing activi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1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4:26:47Z</dcterms:created>
  <dc:creator>Angie</dc:creator>
  <dc:description/>
  <dc:language>en-US</dc:language>
  <cp:lastModifiedBy>rebecca</cp:lastModifiedBy>
  <dcterms:modified xsi:type="dcterms:W3CDTF">2009-02-10T16:11:08Z</dcterms:modified>
  <cp:revision>3</cp:revision>
  <dc:subject/>
  <dc:title>DOA</dc:title>
</cp:coreProperties>
</file>